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5659-2567-4A03-A922-D380C72B3F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2593-B4B9-44A3-9277-24E3C8D22E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8B94-AB55-43C4-95D9-4342736F0E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6B9A-0701-4AD8-83A1-42925603FA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20A9-CCF4-4C61-8DE2-81C2E3832E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13A1-3117-4900-8B70-93C60821BD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C323-1C52-4AB1-B91B-BC69BD641E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60ED-248F-4ECD-96F2-8A5C59DA9A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2404-B641-4AFA-8DC5-4EA56D3293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58B0-52F8-40C6-8042-37DF191563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1304-37B8-4F2C-B892-51D0296ABF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0A27-7A1B-4650-8F88-64C28AB939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C79B-3A9A-4F11-9C3D-FA08D18540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4D93-BC84-42C3-8086-0559A43729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FB77-7B02-42A9-A025-2A451E0319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19F0-4440-42AD-8343-F520ED9902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5100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hyperlink" Target="file:///../Credits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" name="AutoShape 3">
            <a:hlinkClick r:id="rId3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5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6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>
            <a:hlinkClick r:id="rId4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2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839880" y="1754280"/>
            <a:ext cx="777060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What Is Them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Discovering a The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Stating a The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5" action="ppaction://hlinksldjump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20">
            <a:hlinkClick r:id="" action="ppaction://hlinkshowjump?jump=endshow"/>
          </p:cNvPr>
          <p:cNvSpPr/>
          <p:nvPr/>
        </p:nvSpPr>
        <p:spPr>
          <a:xfrm>
            <a:off x="7543800" y="59436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he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52" name="AutoShape 23">
            <a:hlinkClick r:id="" action="ppaction://hlinkshowjump?jump=endshow"/>
          </p:cNvPr>
          <p:cNvSpPr/>
          <p:nvPr/>
        </p:nvSpPr>
        <p:spPr>
          <a:xfrm>
            <a:off x="6095880" y="59436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533520" y="13716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Feature Men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89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38" name="AutoShape 22"/>
          <p:cNvSpPr/>
          <p:nvPr/>
        </p:nvSpPr>
        <p:spPr>
          <a:xfrm>
            <a:off x="5867280" y="59436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Theme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33520" y="137016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N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mes are important to all forms of literat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3520" y="24703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imilar themes can often be found in different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genre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in stories, novels, plays, poems, and even in nonfi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23" descr=""/>
          <p:cNvPicPr/>
          <p:nvPr/>
        </p:nvPicPr>
        <p:blipFill>
          <a:blip r:embed="rId2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24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25" descr=""/>
          <p:cNvPicPr/>
          <p:nvPr/>
        </p:nvPicPr>
        <p:blipFill>
          <a:blip r:embed="rId3"/>
          <a:stretch/>
        </p:blipFill>
        <p:spPr>
          <a:xfrm>
            <a:off x="8096400" y="213372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533520" y="1370160"/>
            <a:ext cx="80769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Mo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t is a mistake to reduce a theme to a simple moral or a cliché, such as “Be true to yourself.” Themes are usually more complex and original revelations about lif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Theme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4133880" y="32004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533520" y="355284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en trying to discover a work’s theme, readers should ask themselves, “What does this work reveal?” rather than “What does this work teach?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13" descr=""/>
          <p:cNvPicPr/>
          <p:nvPr/>
        </p:nvPicPr>
        <p:blipFill>
          <a:blip r:embed="rId3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4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tating a The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33520" y="137016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mplete sent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theme must be a statement about the subject of the work rather a phra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4743360" y="25146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8477280" y="32004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2514600" y="3780000"/>
            <a:ext cx="57913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The story reveals that people often make unwise sacrifices to win the love of other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2514600" y="2895480"/>
            <a:ext cx="579132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making sacrifices for l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533520" y="289548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Incorr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533520" y="378144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Corr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14" descr=""/>
          <p:cNvPicPr/>
          <p:nvPr/>
        </p:nvPicPr>
        <p:blipFill>
          <a:blip r:embed="rId4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5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tating a The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37016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General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mes are stated as generalizations because they apply to more than one situ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5943600" y="25146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533520" y="28195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 fact, many themes are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niversal.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hey apply to people everywhere because people all over the world have common desires, needs, and experienc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14" descr=""/>
          <p:cNvPicPr/>
          <p:nvPr/>
        </p:nvPicPr>
        <p:blipFill>
          <a:blip r:embed="rId3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tating a The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68" name="Text Box 48"/>
          <p:cNvSpPr/>
          <p:nvPr/>
        </p:nvSpPr>
        <p:spPr>
          <a:xfrm>
            <a:off x="533520" y="1370160"/>
            <a:ext cx="41907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N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re is no single way to state a theme. Your statement of theme may be different from your classmates’ them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77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78" descr=""/>
          <p:cNvPicPr/>
          <p:nvPr/>
        </p:nvPicPr>
        <p:blipFill>
          <a:blip r:embed="rId2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9" descr="c04ele009"/>
          <p:cNvPicPr/>
          <p:nvPr/>
        </p:nvPicPr>
        <p:blipFill>
          <a:blip r:embed="rId3"/>
          <a:stretch/>
        </p:blipFill>
        <p:spPr>
          <a:xfrm>
            <a:off x="5105520" y="2028960"/>
            <a:ext cx="348588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Theme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7016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work’s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m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the central idea about human lif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3520" y="2392200"/>
            <a:ext cx="7772400" cy="429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Many elements contribute to a work’s the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3581280" y="3809880"/>
            <a:ext cx="1905120" cy="9648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The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Line 30"/>
          <p:cNvSpPr/>
          <p:nvPr/>
        </p:nvSpPr>
        <p:spPr>
          <a:xfrm>
            <a:off x="2514600" y="3657600"/>
            <a:ext cx="91440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Line 31"/>
          <p:cNvSpPr/>
          <p:nvPr/>
        </p:nvSpPr>
        <p:spPr>
          <a:xfrm flipV="1">
            <a:off x="2514600" y="4419720"/>
            <a:ext cx="91440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Line 32"/>
          <p:cNvSpPr/>
          <p:nvPr/>
        </p:nvSpPr>
        <p:spPr>
          <a:xfrm flipH="1">
            <a:off x="5638680" y="3657600"/>
            <a:ext cx="91440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Line 33"/>
          <p:cNvSpPr/>
          <p:nvPr/>
        </p:nvSpPr>
        <p:spPr>
          <a:xfrm flipH="1" flipV="1">
            <a:off x="5638680" y="4419720"/>
            <a:ext cx="91440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" name="Group 29"/>
          <p:cNvGrpSpPr/>
          <p:nvPr/>
        </p:nvGrpSpPr>
        <p:grpSpPr>
          <a:xfrm>
            <a:off x="5943600" y="4710240"/>
            <a:ext cx="2057400" cy="852480"/>
            <a:chOff x="5943600" y="4710240"/>
            <a:chExt cx="2057400" cy="852480"/>
          </a:xfrm>
        </p:grpSpPr>
        <p:sp>
          <p:nvSpPr>
            <p:cNvPr id="63" name="Oval 17"/>
            <p:cNvSpPr/>
            <p:nvPr/>
          </p:nvSpPr>
          <p:spPr>
            <a:xfrm>
              <a:off x="6095880" y="4710240"/>
              <a:ext cx="1752840" cy="852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5943600" y="492300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Verdana"/>
                </a:rPr>
                <a:t>setting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" name="Group 27"/>
          <p:cNvGrpSpPr/>
          <p:nvPr/>
        </p:nvGrpSpPr>
        <p:grpSpPr>
          <a:xfrm>
            <a:off x="1066680" y="4710240"/>
            <a:ext cx="2057400" cy="852480"/>
            <a:chOff x="1066680" y="4710240"/>
            <a:chExt cx="2057400" cy="852480"/>
          </a:xfrm>
        </p:grpSpPr>
        <p:sp>
          <p:nvSpPr>
            <p:cNvPr id="66" name="Oval 21"/>
            <p:cNvSpPr/>
            <p:nvPr/>
          </p:nvSpPr>
          <p:spPr>
            <a:xfrm>
              <a:off x="1219320" y="4710240"/>
              <a:ext cx="1752480" cy="852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Text Box 22"/>
            <p:cNvSpPr/>
            <p:nvPr/>
          </p:nvSpPr>
          <p:spPr>
            <a:xfrm>
              <a:off x="1066680" y="492300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Verdana"/>
                </a:rPr>
                <a:t>conflict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" name="Group 26"/>
          <p:cNvGrpSpPr/>
          <p:nvPr/>
        </p:nvGrpSpPr>
        <p:grpSpPr>
          <a:xfrm>
            <a:off x="762120" y="3048120"/>
            <a:ext cx="2057400" cy="852480"/>
            <a:chOff x="762120" y="3048120"/>
            <a:chExt cx="2057400" cy="852480"/>
          </a:xfrm>
        </p:grpSpPr>
        <p:sp>
          <p:nvSpPr>
            <p:cNvPr id="69" name="Oval 11"/>
            <p:cNvSpPr/>
            <p:nvPr/>
          </p:nvSpPr>
          <p:spPr>
            <a:xfrm>
              <a:off x="914760" y="3048120"/>
              <a:ext cx="1752480" cy="852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Text Box 12"/>
            <p:cNvSpPr/>
            <p:nvPr/>
          </p:nvSpPr>
          <p:spPr>
            <a:xfrm>
              <a:off x="762120" y="326088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Verdana"/>
                </a:rPr>
                <a:t>characters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" name="Group 28"/>
          <p:cNvGrpSpPr/>
          <p:nvPr/>
        </p:nvGrpSpPr>
        <p:grpSpPr>
          <a:xfrm>
            <a:off x="6248520" y="3124080"/>
            <a:ext cx="2057400" cy="852480"/>
            <a:chOff x="6248520" y="3124080"/>
            <a:chExt cx="2057400" cy="852480"/>
          </a:xfrm>
        </p:grpSpPr>
        <p:sp>
          <p:nvSpPr>
            <p:cNvPr id="72" name="Oval 19"/>
            <p:cNvSpPr/>
            <p:nvPr/>
          </p:nvSpPr>
          <p:spPr>
            <a:xfrm>
              <a:off x="6400800" y="3124080"/>
              <a:ext cx="1752840" cy="852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6248520" y="333684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Verdana"/>
                </a:rPr>
                <a:t>plot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" name="Text Box 34"/>
          <p:cNvSpPr/>
          <p:nvPr/>
        </p:nvSpPr>
        <p:spPr>
          <a:xfrm>
            <a:off x="533520" y="5653080"/>
            <a:ext cx="838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Verdana"/>
                <a:hlinkClick r:id="rId1" action="ppaction://hlinksldjump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35" descr=""/>
          <p:cNvPicPr/>
          <p:nvPr/>
        </p:nvPicPr>
        <p:blipFill>
          <a:blip r:embed="rId2"/>
          <a:stretch/>
        </p:blipFill>
        <p:spPr>
          <a:xfrm>
            <a:off x="4819680" y="19684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6" descr=""/>
          <p:cNvPicPr/>
          <p:nvPr/>
        </p:nvPicPr>
        <p:blipFill>
          <a:blip r:embed="rId3"/>
          <a:stretch/>
        </p:blipFill>
        <p:spPr>
          <a:xfrm>
            <a:off x="8477280" y="266688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Theme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the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001000" y="16002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609480" y="2209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veals the writer’s personal attitude toward the world and the people in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33520" y="37656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y give readers insight into life and human nature or help them realize the importance of what they already kn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5791320" y="289548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dentifying the The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The theme will always be a statement of some kind, not a single wo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001000" y="16002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609480" y="2438280"/>
            <a:ext cx="80773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</a:rPr>
              <a:t>Example The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1880" indent="-347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ometimes if you love someone, you have to let them go and give them their freedom. Love is not possessive.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1880" indent="-347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Verdana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ove” and “Freedom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5791320" y="289548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work’s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m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sometimes confused with 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</a:t>
            </a: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isn’t</a:t>
            </a: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 a The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33520" y="1919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ubjec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what the story is abou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24" descr=""/>
          <p:cNvPicPr/>
          <p:nvPr/>
        </p:nvPicPr>
        <p:blipFill>
          <a:blip r:embed="rId1"/>
          <a:stretch/>
        </p:blipFill>
        <p:spPr>
          <a:xfrm>
            <a:off x="8172360" y="16002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2"/>
          <p:cNvSpPr/>
          <p:nvPr/>
        </p:nvSpPr>
        <p:spPr>
          <a:xfrm>
            <a:off x="533520" y="24573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lo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the events of the 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533520" y="3006720"/>
            <a:ext cx="807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moral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the rule of conduct that the story teach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36" descr=""/>
          <p:cNvPicPr/>
          <p:nvPr/>
        </p:nvPicPr>
        <p:blipFill>
          <a:blip r:embed="rId3"/>
          <a:stretch/>
        </p:blipFill>
        <p:spPr>
          <a:xfrm>
            <a:off x="6343560" y="21337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7" descr=""/>
          <p:cNvPicPr/>
          <p:nvPr/>
        </p:nvPicPr>
        <p:blipFill>
          <a:blip r:embed="rId4"/>
          <a:stretch/>
        </p:blipFill>
        <p:spPr>
          <a:xfrm>
            <a:off x="2514600" y="35812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0"/>
          <p:cNvSpPr/>
          <p:nvPr/>
        </p:nvSpPr>
        <p:spPr>
          <a:xfrm>
            <a:off x="528480" y="4343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se parts of a story are important, but they are not its the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1" descr=""/>
          <p:cNvPicPr/>
          <p:nvPr/>
        </p:nvPicPr>
        <p:blipFill>
          <a:blip r:embed="rId5"/>
          <a:stretch/>
        </p:blipFill>
        <p:spPr>
          <a:xfrm>
            <a:off x="5734080" y="266688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Theme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pic>
        <p:nvPicPr>
          <p:cNvPr id="99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80160" y="403848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0"/>
          <p:cNvSpPr/>
          <p:nvPr/>
        </p:nvSpPr>
        <p:spPr>
          <a:xfrm>
            <a:off x="6324480" y="1447920"/>
            <a:ext cx="22860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y each item as one of the follow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u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lo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o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533520" y="1828800"/>
            <a:ext cx="5181480" cy="131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ree siblings go swimming in a creek even though their grandfather warns them not to. One sibling is almost swept away by the curr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533520" y="3962520"/>
            <a:ext cx="51814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story of a dangerous swi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533520" y="4572000"/>
            <a:ext cx="518148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Young people’s overconfidence can put them in danger; young people often learn a lesson the hard w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26"/>
          <p:cNvSpPr/>
          <p:nvPr/>
        </p:nvSpPr>
        <p:spPr>
          <a:xfrm>
            <a:off x="533520" y="1089000"/>
            <a:ext cx="2286000" cy="58752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28480" y="111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33520" y="3352680"/>
            <a:ext cx="51814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Listen to your el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29"/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8"/>
          <p:cNvSpPr/>
          <p:nvPr/>
        </p:nvSpPr>
        <p:spPr>
          <a:xfrm>
            <a:off x="533520" y="1828800"/>
            <a:ext cx="5181480" cy="131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ree siblings go swimming in a creek even though their grandfather warns them not to. One sibling is almost swept away by the curr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Theme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45"/>
          <p:cNvSpPr/>
          <p:nvPr/>
        </p:nvSpPr>
        <p:spPr>
          <a:xfrm>
            <a:off x="533520" y="1089000"/>
            <a:ext cx="2286000" cy="58752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6"/>
          <p:cNvSpPr/>
          <p:nvPr/>
        </p:nvSpPr>
        <p:spPr>
          <a:xfrm>
            <a:off x="528480" y="111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48"/>
          <p:cNvSpPr/>
          <p:nvPr/>
        </p:nvSpPr>
        <p:spPr>
          <a:xfrm>
            <a:off x="6324480" y="1447920"/>
            <a:ext cx="2286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y each item as one of the follow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u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o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4"/>
          <p:cNvSpPr/>
          <p:nvPr/>
        </p:nvSpPr>
        <p:spPr>
          <a:xfrm>
            <a:off x="533520" y="3962520"/>
            <a:ext cx="51814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story of a dangerous swi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5"/>
          <p:cNvSpPr/>
          <p:nvPr/>
        </p:nvSpPr>
        <p:spPr>
          <a:xfrm>
            <a:off x="533520" y="4572000"/>
            <a:ext cx="518148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Young people’s overconfidence can put them in danger; young people often learn a lesson the hard w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56"/>
          <p:cNvSpPr/>
          <p:nvPr/>
        </p:nvSpPr>
        <p:spPr>
          <a:xfrm>
            <a:off x="533520" y="3352680"/>
            <a:ext cx="51814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Listen to your el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Oval 16"/>
          <p:cNvSpPr/>
          <p:nvPr/>
        </p:nvSpPr>
        <p:spPr>
          <a:xfrm>
            <a:off x="4572000" y="3200400"/>
            <a:ext cx="1447920" cy="5335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o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Oval 17"/>
          <p:cNvSpPr/>
          <p:nvPr/>
        </p:nvSpPr>
        <p:spPr>
          <a:xfrm>
            <a:off x="4876920" y="2590920"/>
            <a:ext cx="1444680" cy="530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Oval 18"/>
          <p:cNvSpPr/>
          <p:nvPr/>
        </p:nvSpPr>
        <p:spPr>
          <a:xfrm>
            <a:off x="4648320" y="3886200"/>
            <a:ext cx="1447560" cy="5335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u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Oval 19"/>
          <p:cNvSpPr/>
          <p:nvPr/>
        </p:nvSpPr>
        <p:spPr>
          <a:xfrm>
            <a:off x="4651200" y="5251320"/>
            <a:ext cx="1443240" cy="540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57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Discovering a The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6560" indent="-35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ually, the author does not say what the theme is directly. You must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NFER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what the theme 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8305920" y="21337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457200" y="2362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6560" indent="-35208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ink about the tit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09480" y="4648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6560" indent="-35208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ay attention to story’s conflict and how it is resolv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4708440" y="3689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457200" y="28954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6560" indent="-35208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ink about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what the protagonist learn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. If the protagonist realizes something important about life at the end of the story, that is probably the theme of the s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3" descr=""/>
          <p:cNvPicPr/>
          <p:nvPr/>
        </p:nvPicPr>
        <p:blipFill>
          <a:blip r:embed="rId3"/>
          <a:stretch/>
        </p:blipFill>
        <p:spPr>
          <a:xfrm>
            <a:off x="7620120" y="426708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6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     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pply your knowledge to a story you kno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Practic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pic>
        <p:nvPicPr>
          <p:cNvPr id="134" name="Picture 5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1622160" cy="33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533520" y="2514600"/>
          <a:ext cx="8076960" cy="2286000"/>
        </p:xfrm>
        <a:graphic>
          <a:graphicData uri="http://schemas.openxmlformats.org/drawingml/2006/table">
            <a:tbl>
              <a:tblPr/>
              <a:tblGrid>
                <a:gridCol w="807696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The Contents of the Dead Man’s Pocke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What does the title mea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How does the main character chang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How is the conflict resolv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What, in general, does the story reveals about lif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What is the story’s them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sp>
        <p:nvSpPr>
          <p:cNvPr id="136" name="Text Box 137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Amber</dc:creator>
  <dc:description/>
  <dc:language>en-US</dc:language>
  <cp:lastModifiedBy>Dan Olsen</cp:lastModifiedBy>
  <cp:lastPrinted>2004-11-19T20:17:12Z</cp:lastPrinted>
  <dcterms:modified xsi:type="dcterms:W3CDTF">2011-11-08T20:03:28Z</dcterms:modified>
  <cp:revision>142</cp:revision>
  <dc:subject/>
  <dc:title>Elements of Literature: Character</dc:title>
</cp:coreProperties>
</file>